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565-9F69-4567-B62D-75F4212C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1DC-4702-452D-96C0-243AECC8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495-F8F0-4D01-920B-04F7AED1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BCD-8AF1-4719-A6EB-BB18AA6F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7335-CFAE-42AF-9527-B162657C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F091-D864-433D-9EC4-4A3D45A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D294-3B2F-4735-A336-E3D06C0C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A042-E809-4CC5-853F-6938F166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C89A-F143-43B8-8341-17B314AD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4063-AF14-46C5-A1A3-544011DB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3950-0000-456D-97FD-B02F5C7D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1E2-7F2F-435C-9FE8-353D17DB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6A02-AF0F-4DBE-9B5B-F2CAB06D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3366-85F1-4D3B-882D-8B56095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A883-A527-4AC0-A1F1-70C06A9E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D675-EE79-42E9-830E-1E8A809A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DFC1-BF21-4AA3-8355-F1FE3C02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745-5F4F-47D7-850D-66904989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B80-EDFB-418E-962B-0115F1E9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469-9223-4AC2-BA98-3FC6D752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4F8-7909-4259-A8A9-563F2CF6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D14-9D30-49D9-A214-3BE4891C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D79-B688-4DAB-ADA9-2252997D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38D-C32A-4B3E-9CFC-42F2DBB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00040"/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0004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8B93-F39F-46A3-BDE2-1360E7F445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00040"/>
            </a:solidFill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99DC-4C78-4C24-8AAF-A7FC403D1C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Республика Коми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много  ней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268280"/>
            <a:ext cx="86421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спу́блика Ко́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(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ми Республ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 — субъект Российской Федерации, входит в состав Северо-Западного федерального окру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лица — город 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ыктывка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ована республика Коми была 22 августа 1921 года как автономная область — АО Коми (Зырян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 декабря 1936 года была преобразована в автономную республику в составе РСФСР — Коми АСС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3 ноября 1990 года была преобразована в автономную республику — Коми СС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6 мая 1992 года была преобразована в республику в составе России —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спублика Ко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70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много о ней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Флаг Республики Коми"/>
          <p:cNvPicPr/>
          <p:nvPr/>
        </p:nvPicPr>
        <p:blipFill>
          <a:blip r:embed="rId2"/>
          <a:stretch/>
        </p:blipFill>
        <p:spPr>
          <a:xfrm>
            <a:off x="6732720" y="328464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Герб Республики Коми"/>
          <p:cNvPicPr/>
          <p:nvPr/>
        </p:nvPicPr>
        <p:blipFill>
          <a:blip r:embed="rId3"/>
          <a:stretch/>
        </p:blipFill>
        <p:spPr>
          <a:xfrm>
            <a:off x="755640" y="3213000"/>
            <a:ext cx="952560" cy="111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Республика Коми на карте России"/>
          <p:cNvPicPr/>
          <p:nvPr/>
        </p:nvPicPr>
        <p:blipFill>
          <a:blip r:embed="rId4"/>
          <a:stretch/>
        </p:blipFill>
        <p:spPr>
          <a:xfrm>
            <a:off x="3059280" y="2997360"/>
            <a:ext cx="2857320" cy="164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4365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ерб Республики Ко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4365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лаг Республики Ко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48690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еспублика Коми на ка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Плато Мань-пупу-нёр"/>
          <p:cNvPicPr/>
          <p:nvPr/>
        </p:nvPicPr>
        <p:blipFill>
          <a:blip r:embed="rId2"/>
          <a:stretch/>
        </p:blipFill>
        <p:spPr>
          <a:xfrm>
            <a:off x="5148360" y="1916280"/>
            <a:ext cx="3241440" cy="2160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ырь - Щелье, скала, геологический памятник, расположен на реке Большая Сыня в 25 км выше совхоза Сыня, Печорский горсо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◊ Посмотреть фотографии объекта ◊"/>
          <p:cNvPicPr/>
          <p:nvPr/>
        </p:nvPicPr>
        <p:blipFill>
          <a:blip r:embed="rId3"/>
          <a:stretch/>
        </p:blipFill>
        <p:spPr>
          <a:xfrm>
            <a:off x="1619280" y="1916280"/>
            <a:ext cx="2808360" cy="21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50920" y="18900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260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4149720"/>
            <a:ext cx="727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лбы́ выве́тривания (мансийские болваны) — геологический памятник в Троицко-Печорском районе Республики Коми России на горе Мань-Пупу-нёр (что на языке манси означает «Малая гора идолов»), в междуречье рр. Ичотляга и Печоры.Останцев 7, высота от 30 до 42 м. С ним связаны многочисленные легенды, прежде Столбы Выветривания являлись объектами культа манс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18900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амятники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й мир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Обыкновенный таймень"/>
          <p:cNvPicPr/>
          <p:nvPr/>
        </p:nvPicPr>
        <p:blipFill>
          <a:blip r:embed="rId1"/>
          <a:stretch/>
        </p:blipFill>
        <p:spPr>
          <a:xfrm>
            <a:off x="5508720" y="4005360"/>
            <a:ext cx="2619360" cy="79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Европейская ряпушка"/>
          <p:cNvPicPr/>
          <p:nvPr/>
        </p:nvPicPr>
        <p:blipFill>
          <a:blip r:embed="rId2"/>
          <a:stretch/>
        </p:blipFill>
        <p:spPr>
          <a:xfrm>
            <a:off x="1116000" y="4005360"/>
            <a:ext cx="2619360" cy="742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6920" y="1413000"/>
            <a:ext cx="77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 ры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представлен в реках и озёрах Республики Коми 8 отрядами, 12 семействами, 47 видами. В бассейне Печоры преобладают сибирские виды, в других бассейнах больше видов, проникающих с юга. К реликтам ледникового периода относятся: голец-палия, сибирский хариус, пелядь некоторых горных озёр и ряпушка Лемвинских озёр. К редким видам с ограниченным ареалом относится таймень; к краснокнижным — бычок-подкаменщик. В 1960—1970-е годы в бассейн Вычегды из Камы проникли белоглазка,краснопёрка, чехонь, суда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Краснопёрка"/>
          <p:cNvPicPr/>
          <p:nvPr/>
        </p:nvPicPr>
        <p:blipFill>
          <a:blip r:embed="rId3"/>
          <a:stretch/>
        </p:blipFill>
        <p:spPr>
          <a:xfrm>
            <a:off x="3203640" y="5229360"/>
            <a:ext cx="26193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473040"/>
            <a:ext cx="81421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вотный ми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Grus grus 1 (Marek Szczepanek).jpg"/>
          <p:cNvPicPr/>
          <p:nvPr/>
        </p:nvPicPr>
        <p:blipFill>
          <a:blip r:embed="rId1"/>
          <a:stretch/>
        </p:blipFill>
        <p:spPr>
          <a:xfrm>
            <a:off x="826920" y="4724280"/>
            <a:ext cx="2524320" cy="1667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Беркут"/>
          <p:cNvPicPr/>
          <p:nvPr/>
        </p:nvPicPr>
        <p:blipFill>
          <a:blip r:embed="rId2"/>
          <a:stretch/>
        </p:blipFill>
        <p:spPr>
          <a:xfrm>
            <a:off x="6084720" y="4292640"/>
            <a:ext cx="2524320" cy="2305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5640" y="1700280"/>
            <a:ext cx="75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 Птиц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представлен 239 видами, 44 семемействами, 17 отряд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расные книги внесены: кречет, сапсан, беркут, орлан-белохвост, скопа, краснозобая казарка, пискулька и малый (тундряной) лебедь. Кроме того, охраняются лебедь-кликун, все хищные птицы, совы, серый журавль, кроншнепы, соловей и др. Промысловое значение имеют белая куропатка, глухарь, тетерев, рябчик, а также водоплавающие птицы (гуси, утки) и кулики (в основном вальдшнеп, дупель, бекас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14:57Z</dcterms:created>
  <dc:creator>студент</dc:creator>
  <dc:description/>
  <dc:language>en-US</dc:language>
  <cp:lastModifiedBy>Acer</cp:lastModifiedBy>
  <dcterms:modified xsi:type="dcterms:W3CDTF">2012-05-08T08:49:46Z</dcterms:modified>
  <cp:revision>2</cp:revision>
  <dc:subject/>
  <dc:title>Республика Коми</dc:title>
</cp:coreProperties>
</file>